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47A204-9EE5-4A45-B850-A85CC4BDF6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93A8A5-D12E-4955-9B8A-CDBED81388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BEB3D0-215E-4260-B5D0-A5C02FA262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AB8AE2-3E2F-4CAB-8ADB-D80861E501A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8D7340-5E27-44BB-B07F-3B4EACA5F7A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72B135-3A5D-456B-9540-0635D673D7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89886C-CC7A-405E-A3BA-903621AC6D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7FE957-72E5-4700-8041-03EB9B7246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B0069B-2D2C-4F19-B6EA-2CAD82DDA7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655A33-0B56-4E6A-9603-951300A154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511E48-1EF0-4CFA-843B-92CD43B2A0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8E9FCA-F06B-463C-A52F-ED6AB013D5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BBD00-DC62-47CA-A420-8D2533BC96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093680" y="1733400"/>
            <a:ext cx="312840" cy="495360"/>
            <a:chOff x="1093680" y="1733400"/>
            <a:chExt cx="312840" cy="495360"/>
          </a:xfrm>
        </p:grpSpPr>
        <p:sp>
          <p:nvSpPr>
            <p:cNvPr id="41" name=""/>
            <p:cNvSpPr/>
            <p:nvPr/>
          </p:nvSpPr>
          <p:spPr>
            <a:xfrm>
              <a:off x="1171800" y="173340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249920" y="187488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132200" y="20872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249920" y="20872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093680" y="19810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758960" y="166680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797120" y="172872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882880" y="2038320"/>
            <a:ext cx="52380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758960" y="233352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084400" y="229716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376280" y="1914480"/>
            <a:ext cx="3762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600200" y="135252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200" y="2266920"/>
            <a:ext cx="990720" cy="304920"/>
          </a:xfrm>
          <a:custGeom>
            <a:avLst/>
            <a:gdLst>
              <a:gd name="textAreaLeft" fmla="*/ 154800 w 990720"/>
              <a:gd name="textAreaRight" fmla="*/ 866880 w 99072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83240" y="19051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21400" y="20541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872320" y="2535120"/>
            <a:ext cx="63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5591160" y="2572920"/>
            <a:ext cx="110016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Document"/>
          <p:cNvSpPr/>
          <p:nvPr/>
        </p:nvSpPr>
        <p:spPr>
          <a:xfrm>
            <a:off x="4651200" y="41799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10160" y="419256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3822840" y="4446720"/>
            <a:ext cx="312480" cy="501480"/>
            <a:chOff x="3822840" y="4446720"/>
            <a:chExt cx="312480" cy="501480"/>
          </a:xfrm>
        </p:grpSpPr>
        <p:sp>
          <p:nvSpPr>
            <p:cNvPr id="61" name=""/>
            <p:cNvSpPr/>
            <p:nvPr/>
          </p:nvSpPr>
          <p:spPr>
            <a:xfrm>
              <a:off x="3900960" y="4446720"/>
              <a:ext cx="15588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979080" y="45900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>
              <a:off x="3861360" y="48049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979080" y="48049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822840" y="469728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"/>
          <p:cNvSpPr/>
          <p:nvPr/>
        </p:nvSpPr>
        <p:spPr>
          <a:xfrm flipH="1">
            <a:off x="4088880" y="4408560"/>
            <a:ext cx="5590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522432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467160" y="536112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24320" y="5905440"/>
            <a:ext cx="1138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538440" y="586908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75120" y="49291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7335720" y="203184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7467480" y="213372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6725880" y="22860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39680" y="201924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33520" y="47160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ergency KSK Roll-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3456000" y="1687680"/>
            <a:ext cx="295200" cy="5871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3693960" y="1847880"/>
            <a:ext cx="295560" cy="5875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3394080" y="1459080"/>
            <a:ext cx="636480" cy="10666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700440" y="237348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911320" y="153504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4721400" y="2144880"/>
            <a:ext cx="312480" cy="495000"/>
            <a:chOff x="4721400" y="2144880"/>
            <a:chExt cx="312480" cy="495000"/>
          </a:xfrm>
        </p:grpSpPr>
        <p:sp>
          <p:nvSpPr>
            <p:cNvPr id="83" name=""/>
            <p:cNvSpPr/>
            <p:nvPr/>
          </p:nvSpPr>
          <p:spPr>
            <a:xfrm>
              <a:off x="4799520" y="214488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877640" y="228636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4759920" y="24984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877640" y="24984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721400" y="23922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3886200" y="295596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5046840" y="2297160"/>
            <a:ext cx="533160" cy="6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8600" y="1763640"/>
            <a:ext cx="1828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967200" y="2144880"/>
            <a:ext cx="774720" cy="171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4191120" y="2436840"/>
            <a:ext cx="550800" cy="536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00400" y="32576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public ke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686480" y="2673000"/>
            <a:ext cx="156960" cy="351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Document"/>
          <p:cNvSpPr/>
          <p:nvPr/>
        </p:nvSpPr>
        <p:spPr>
          <a:xfrm>
            <a:off x="4406760" y="3029040"/>
            <a:ext cx="56376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354560" y="306216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5054760" y="2743200"/>
            <a:ext cx="583920" cy="141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654280" y="5665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664240" y="3441600"/>
            <a:ext cx="129528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664240" y="42544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121440" y="425916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778360" y="3568680"/>
            <a:ext cx="10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cure Delegation – Parent Zone Activ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rot="5400000">
            <a:off x="6084000" y="2919960"/>
            <a:ext cx="406440" cy="249120"/>
          </a:xfrm>
          <a:custGeom>
            <a:avLst/>
            <a:gdLst>
              <a:gd name="textAreaLeft" fmla="*/ 63360 w 406440"/>
              <a:gd name="textAreaRight" fmla="*/ 355680 w 406440"/>
              <a:gd name="textAreaTop" fmla="*/ 62280 h 249120"/>
              <a:gd name="textAreaBottom" fmla="*/ 186840 h 249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587920" y="3314880"/>
            <a:ext cx="1447920" cy="1904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64240" y="4648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3:07Z</dcterms:modified>
  <cp:revision>154</cp:revision>
  <dc:subject/>
  <dc:title>Slide 1</dc:title>
</cp:coreProperties>
</file>